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39E-143F-482F-9D6F-46A79A00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C11-114B-47AA-AE7A-36956E0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66F-633F-4445-B7C8-902EBCE0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097-7E4B-48F5-BDD8-E1BBC1E6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E2B-6E45-4A40-9B44-03ECAD6E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0D4-EBB2-4591-AB71-3957F21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A56-A487-4A9E-86DA-13A4122D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BD3-2EEF-46A7-8F6F-2943FE9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6A1-2277-4427-B096-33985D3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747-9305-4FF5-A129-6836AF9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FD9-FB88-4D6D-9F5C-D48BCF1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5F5-C67F-4547-ADA7-12F111F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D4E-A449-4171-ABBE-313608FC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8 French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nis Court O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ember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constitution written by the 3rd estate that declared their rights &amp; was against the inequalities of the old or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was locked out of their meeting place by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hey met on a tennis court = claiming to represent the ppl of France,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declared themselves the National Assembly = the revolutionary gov’t that would start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t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VI; Pari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rim medieval fortress used as a prison for political and other priso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Paris,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isian crowd demanded weapons &amp; gunpowder that they thought were stored in the prison; they killed the guards &amp; released the prisoners; it was a symbol of the abuse of the monarchy; the storming &amp; fall of Bastille = wake up call to king b.c. it was a challenge to his regime; today= French celebrate this as their independence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issenting groups of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groups competed to gain power; Moderates fought the Radicals who replaced the royal gov’t; these fights = whole neighborhoods into protest = furthers the revolution = some demanded end to monarchy, others no = complex Revolution- no one could 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quis de Lafay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aded the National Guard &amp; the moderate dissenting group of the revol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late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led the Moderate faction group against the royals in the revolution; competed against the Radical grp (Paris Commune) for powe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ympe de Gou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emale journ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emanded equal rights for women in her “Declaration of the Rights of Women &amp; the Female citiz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ecame on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omen’s rights activists; later in the revolution, women met resistance 4 expressing their views in public = imprisoned &amp;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e Antoin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ife of King Louis XVI, queen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he lived a life of great pleasure &amp; extravag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r extravagant living = put France in debt = the French disliked her; in the Women’s March to Versailles- the women captured Marie &amp; took her to Paris- she was eventually guillotined w. her husband for putting France into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ig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obles, Clergy, others who had fled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erson who fled France from the Revolutionary fo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ppl fled to other European countries &amp; told stories about the revolution = made European absolute monarchs nervous that revolutions would occur in their countries al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s-Culo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working class men &amp;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“without breeches”; those that were working class that pushed the revolution into the radical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y wore long trousers instead of the fancy knee britches that upper class men wore; this group demanded a republic (govt ruled by elected reps) instead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ans-Culo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govt that is ruled by elected representatives instead of a mon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Sans-Culottes (the radicals) wanted this type of govt after the French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ien Reg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ld order; outdated social system where society was divided into 3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3 estates (classes) were separated in this system- Clergy= enormous wealth &amp; privilege;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didn’t  agree w. taxing = Enlightenment ideas that questioned inequalities = Revolution agnst the Ancien Regime &amp; overthrows the go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cob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iddle class lawyers or intellect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revolutionary political club that supported the Sans-culo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oup used newspapers &amp; pamplets to advance the republican cause; they were a radical faction that wanted a Republic, not a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revolutionary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right t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fter the execution of King Louis XVI, the radicals called for an election of a new legis. Body- Nat’l Convention; also called for suffrage for all male citizens, not just prop ow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spi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aximilien Robespierre, lawyer &amp; politici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leader of Committee of Public Safety, led the Reign of T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-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believed terror was necessary to achieve the goals of the revolution; he was eventually arrested &amp; executed himself= the end of Reign of T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gn of T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the Committee of Public Safety, Robespie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Revolutionary courts conducted hasty trials &amp; executed those who were suspect of resisting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Sept 1793-July 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,000 ppl were arrested, 17,000 were executed by the Guillotine; many were victims of false identity &amp; falsely accused; radical part of the revolution= too radical= ended the reign &amp; started the moderat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llo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Dr. Joseph Guillot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more humane method of beheading than an ax w. a falling blade that extinguished life insta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-17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was the engine of terror for the Reign of Terror; quickly became a symbol of ho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revolutio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trong feeling of pride in and devotion to one’s country, spread throughout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Revolution &amp; war gave ppl a strong sense of national identity; sense of loyalty had shifted from monarch to the nation itself; the French attended festivals &amp; celebrated the nation &amp;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e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ort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roops marched through here with a nationalistic song- “La Marseillaise” which later became the French Natl an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popular military hero, dictato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verthrew the Directory &amp; set up 3 man Consulate; took the titl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sul then took the title Emperor &amp; became dictator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next slide- there’s a l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idated his power by strengthening the Central go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ored economic prospe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prices, encouraged new industry, built roads, canals; set up system of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peace with the Catholic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 support across class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d emigres to return; opened jobs to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de of laws- Napoleonic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a vast French Emp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divided social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under Ancien Regime everyone in France fell into 1 of 3 Estates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ergy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bles;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veryone else (vast majority of po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bis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opular vote by bal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99-18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oleon held a plebiscite on each of his steps to power so he was popularly elected into power- he then took control as dict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poleonic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one of Nap’s reforms; a code of laws that embodied Enlighte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1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one of Nap’s most lasting reforms; consolidated many changes of the revolution; ensured equality before the law, religious toleration, &amp; abolition of feudalism; women lost their newly gained rights &amp; couldn’t exercise rights of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incorporating lands into 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4-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as part of his vast empire building, Nap annexed Netherlands, Belgium, parts of Italy &amp; Germany into France under his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blockade system in Europe that shut off ports to keep ppl &amp; goods from moving in/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5-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, Great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 couldn’t invade GB successfully &amp; he wanted it in his empire so he waged economic warfare on the British through this system that closed European ports to British goods= War of 1812 w.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rrilla Warf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Spanish patrio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it and run raids, means “little wa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Spain vs.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in resisting Nap’s rule in Spain- Small bands of guerillas ambushed French supply trains/troops &amp; retreated to countryside; kept large numbers of French soldiers tied down in Spain while Nap needed them = encouraged Austria to resume fighting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ched-earth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war strategy where Russians retreated eastward, burning crops &amp; villages as they 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00-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russian war defensive strategy left the French hungry &amp; cold when trying to invade Russia = French retreated &amp; could not invade Russia; this policy is used in WWI and WWII success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dic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Napol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step down from pow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Napoleon failed to take Russia = weakened France = he abdicated &amp; was exiled to Elba (an island in Meditearranean) = they brought back a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 of Vie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diplomats &amp; heads of state; Klemens von Mettern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meeting of leaders to discuss restoring stability &amp; order in Europe after Napole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Vienna, Austria,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Sept 1814-June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(on the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nted to create a lasting peace by est. a balance of pwr &amp; protect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y Alliance” of christian monarchs to suppress future rev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rew the map of Europe- took land away from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of Legitimacy- restored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Concert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rgeois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Bankers, merchants, manufactu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middle class, the wealthy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is group was the wealthiest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; the inequalities they experienced from the other estates led this group to starting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monar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fter the fall of Napoleon, the hereditary monarchies of Europe were restored to their thr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Congress of Vienna restored the monarchs to their thrones to restore order to Europe; Louis VIII was king of France- time known as “Restor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rt of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European ru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a system where the rulers would periodically meet to discuss any probs affecting the peace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Congress of Vienna created this alliance in order to ensure &amp; maintain peace throughout Europe; to avoid another Napoleon from taking over the whole cont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cit spe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Louis XVI &amp; Jacques Ne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when a gov’t spends more than it tak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king lived super fancy = the Govt borrowed more &amp; more $$; ½ the gov’t’s income from taxes went to paying interest on the enormous debt; the economics issues = social unrest &amp; heightened tension=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uis X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king of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pursued pleasure before serious gov’t matters = drove up deb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15-17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was weak &amp; indecisive; lived extravagantly &amp; spent France’s $$, did not call on the Estates- General = made French MAD; his abuses = revolution; his was guillotined in the radical part of the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cques Ne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financial advisor to King Louis X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he urged the king to reduce extravagant spending, reform the govt, &amp; abolish burdensome tarri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9-18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he proposed tax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state= nobles &amp; high clergy dismiss him; crisis worsened = pressure for reform mounted = 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tes-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Representatives of the 3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the Legislative body consisting of reps from the 3 estates; King summons them for changes to be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; 17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 King hadn’t called on them for 175 years b.c. he feared the nobles would take back power; E-G is mad = refuse to cooperate w.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h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: members from the 3 e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: notebooks that listed their grievances to the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: 17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: these complaints called for reforms such as fairer taxes, freedom of the press, regular mtgs of the Estates-General = these showed the boiling class resentments against the mo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7:52:15Z</dcterms:created>
  <dc:creator>Nease High School</dc:creator>
  <dc:description/>
  <dc:language>en-US</dc:language>
  <cp:lastModifiedBy>Windows User</cp:lastModifiedBy>
  <dcterms:modified xsi:type="dcterms:W3CDTF">2013-02-01T19:16:42Z</dcterms:modified>
  <cp:revision>26</cp:revision>
  <dc:subject/>
  <dc:title>Slide 1</dc:title>
</cp:coreProperties>
</file>